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1797-E290-4D34-B247-1FB40957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EBC3-F225-4B15-8E53-CB651572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F271-11B4-427C-BC16-8E576314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9C5-F7C4-4DE3-9F30-0362CF2C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4ECA-3177-4034-9E59-A033228A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162E-3377-4328-9959-125C61C4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DF22-3F6E-4B53-ABB3-C9C90328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C619-68CE-4C0C-9F27-6431731E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13E3-2ADE-4665-9099-C7355D31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06E-2C50-493F-8E48-FA45B40D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DB8-9C42-42B9-8847-016BC86C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CAC1-EBE6-44B1-881D-4C12C221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3A2E-4105-48BB-AB9C-E4F811BEBB7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"/>
          <p:cNvSpPr/>
          <p:nvPr/>
        </p:nvSpPr>
        <p:spPr>
          <a:xfrm>
            <a:off x="522360" y="461880"/>
            <a:ext cx="784836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AJUSTE FINO” ZONAS CON LIMITACIONES NATU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XTREMADURA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COMITÉ DE SEGU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PDR EXTREMADURA 2014-2022</a:t>
            </a:r>
            <a:r>
              <a:rPr b="1" lang="pl-PL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20 junio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2317680" y="2062080"/>
          <a:ext cx="4257720" cy="3803760"/>
        </p:xfrm>
        <a:graphic>
          <a:graphicData uri="http://schemas.openxmlformats.org/drawingml/2006/table">
            <a:tbl>
              <a:tblPr/>
              <a:tblGrid>
                <a:gridCol w="1330560"/>
                <a:gridCol w="2927160"/>
              </a:tblGrid>
              <a:tr h="760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VI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ed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ris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on Beni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uad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uareñ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nch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ell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ngabr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onuevo del Guad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nta Am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lacal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tor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nueva de la Se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r de 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ángulo 3"/>
          <p:cNvSpPr/>
          <p:nvPr/>
        </p:nvSpPr>
        <p:spPr>
          <a:xfrm>
            <a:off x="1003320" y="1057320"/>
            <a:ext cx="72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eciséis municipios que en el período 2007 –2013, no reunían la consideración de desfavorecidos por despoblamiento, </a:t>
            </a:r>
            <a:r>
              <a:rPr b="1" lang="es-ES" sz="1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pasan a tener la consideración de ZONAS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87" name="Rectángulo 3"/>
          <p:cNvSpPr/>
          <p:nvPr/>
        </p:nvSpPr>
        <p:spPr>
          <a:xfrm>
            <a:off x="923760" y="1197000"/>
            <a:ext cx="72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is municipios que en el período 2007 –2013, reunían la consideración de desfavorecidos, </a:t>
            </a:r>
            <a:r>
              <a:rPr b="1" lang="es-ES" sz="1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pasan a tener la consideración de ZONAS ORDIN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2876400"/>
          <a:ext cx="4748400" cy="2054520"/>
        </p:xfrm>
        <a:graphic>
          <a:graphicData uri="http://schemas.openxmlformats.org/drawingml/2006/table">
            <a:tbl>
              <a:tblPr/>
              <a:tblGrid>
                <a:gridCol w="2327400"/>
                <a:gridCol w="2421000"/>
              </a:tblGrid>
              <a:tr h="293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VI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satej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j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Pueblonuevo de Miramo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Rosale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Talay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Tié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ángulo 5"/>
          <p:cNvSpPr/>
          <p:nvPr/>
        </p:nvSpPr>
        <p:spPr>
          <a:xfrm>
            <a:off x="439560" y="1671480"/>
            <a:ext cx="833616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proponen distintos método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versiones que podrían considerarse en frente al criterio de aridez (regadío, invernad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ctividad económica. Producción stan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ndimiento medio de un cultivo do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rga gan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ltivos permanentes / densidad de árb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tividad normal de l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stema agrarios y métodos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ángulo 6"/>
          <p:cNvSpPr/>
          <p:nvPr/>
        </p:nvSpPr>
        <p:spPr>
          <a:xfrm>
            <a:off x="314280" y="1000080"/>
            <a:ext cx="858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ocumento (07/2016) Ajuste fino para limitaciones naturales y específicas signific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2097000" y="4282920"/>
          <a:ext cx="6562800" cy="1920960"/>
        </p:xfrm>
        <a:graphic>
          <a:graphicData uri="http://schemas.openxmlformats.org/drawingml/2006/table">
            <a:tbl>
              <a:tblPr/>
              <a:tblGrid>
                <a:gridCol w="878040"/>
                <a:gridCol w="2143080"/>
                <a:gridCol w="830160"/>
                <a:gridCol w="976320"/>
                <a:gridCol w="939960"/>
                <a:gridCol w="795240"/>
              </a:tblGrid>
              <a:tr h="4266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p. Total (Km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U_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p regadí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 regadio &gt; 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ellí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4,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.563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.334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3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a de la Cal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4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00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5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14,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41,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5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nta Am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3,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.117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.695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6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r de R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2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.994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.290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8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lacal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974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838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3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onuevo del Guadi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8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.043,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606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,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2"/>
          <p:cNvSpPr/>
          <p:nvPr/>
        </p:nvSpPr>
        <p:spPr>
          <a:xfrm>
            <a:off x="444600" y="591120"/>
            <a:ext cx="8254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ha utilizado el ajuste de la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ficies de regadío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entendiendo que es u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stema agrícola de explotación diferenciado, posibilita la existencia de cultivos y producciones muy superiores a las superficies de secano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de modo que el rendimiento económico obtenido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ermite considerar superadas las limitaciones naturales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s simulaciones efectuadas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 la designación de las zonas con limitaciones naturales significativas tras el ajuste de las superficies de regadío, existe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is municipios en los que su superficie agrícola de regadío no cumple los umbrales mínimos de los criterios empleados en la delimit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La relación de municipios que quedarían excluidos de las zonas con limitaciones naturales son (% SAU superior al 70%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2"/>
          <p:cNvSpPr/>
          <p:nvPr/>
        </p:nvSpPr>
        <p:spPr>
          <a:xfrm>
            <a:off x="0" y="4630680"/>
            <a:ext cx="182880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105" name="Imagen 2" descr=""/>
          <p:cNvPicPr/>
          <p:nvPr/>
        </p:nvPicPr>
        <p:blipFill>
          <a:blip r:embed="rId2"/>
          <a:stretch/>
        </p:blipFill>
        <p:spPr>
          <a:xfrm>
            <a:off x="1125360" y="0"/>
            <a:ext cx="6643800" cy="6140520"/>
          </a:xfrm>
          <a:prstGeom prst="rect">
            <a:avLst/>
          </a:prstGeom>
          <a:ln w="0">
            <a:noFill/>
          </a:ln>
        </p:spPr>
      </p:pic>
      <p:pic>
        <p:nvPicPr>
          <p:cNvPr id="106" name="Imagen 4" descr=""/>
          <p:cNvPicPr/>
          <p:nvPr/>
        </p:nvPicPr>
        <p:blipFill>
          <a:blip r:embed="rId3"/>
          <a:stretch/>
        </p:blipFill>
        <p:spPr>
          <a:xfrm>
            <a:off x="6664320" y="401760"/>
            <a:ext cx="1266840" cy="1095120"/>
          </a:xfrm>
          <a:prstGeom prst="rect">
            <a:avLst/>
          </a:prstGeom>
          <a:ln w="0">
            <a:noFill/>
          </a:ln>
        </p:spPr>
      </p:pic>
      <p:sp>
        <p:nvSpPr>
          <p:cNvPr id="107" name="CuadroTexto 5"/>
          <p:cNvSpPr/>
          <p:nvPr/>
        </p:nvSpPr>
        <p:spPr>
          <a:xfrm>
            <a:off x="7091280" y="627120"/>
            <a:ext cx="13226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ORDINA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uadroTexto 6"/>
          <p:cNvSpPr/>
          <p:nvPr/>
        </p:nvSpPr>
        <p:spPr>
          <a:xfrm>
            <a:off x="7091280" y="841320"/>
            <a:ext cx="1584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MONTAÑ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uadroTexto 7"/>
          <p:cNvSpPr/>
          <p:nvPr/>
        </p:nvSpPr>
        <p:spPr>
          <a:xfrm>
            <a:off x="7080120" y="1068480"/>
            <a:ext cx="18147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ESPECÍFIC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uadroTexto 8"/>
          <p:cNvSpPr/>
          <p:nvPr/>
        </p:nvSpPr>
        <p:spPr>
          <a:xfrm>
            <a:off x="7091280" y="1282680"/>
            <a:ext cx="1584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NATURA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uadroTexto 9"/>
          <p:cNvSpPr/>
          <p:nvPr/>
        </p:nvSpPr>
        <p:spPr>
          <a:xfrm>
            <a:off x="5997600" y="4983120"/>
            <a:ext cx="2897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TREM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Z. L.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DELIMITACIÓN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2"/>
          <p:cNvSpPr/>
          <p:nvPr/>
        </p:nvSpPr>
        <p:spPr>
          <a:xfrm>
            <a:off x="0" y="3619440"/>
            <a:ext cx="183816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2"/>
          <p:cNvSpPr/>
          <p:nvPr/>
        </p:nvSpPr>
        <p:spPr>
          <a:xfrm>
            <a:off x="0" y="3619440"/>
            <a:ext cx="183816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2"/>
          <a:stretch/>
        </p:blipFill>
        <p:spPr>
          <a:xfrm>
            <a:off x="2405160" y="1236600"/>
            <a:ext cx="4878360" cy="4689360"/>
          </a:xfrm>
          <a:prstGeom prst="rect">
            <a:avLst/>
          </a:prstGeom>
          <a:ln w="0">
            <a:noFill/>
          </a:ln>
        </p:spPr>
      </p:pic>
      <p:sp>
        <p:nvSpPr>
          <p:cNvPr id="116" name="CuadroTexto 3"/>
          <p:cNvSpPr/>
          <p:nvPr/>
        </p:nvSpPr>
        <p:spPr>
          <a:xfrm>
            <a:off x="0" y="279360"/>
            <a:ext cx="3773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TREM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Z. L.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ELIMITACIÓN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agen 3" descr=""/>
          <p:cNvPicPr/>
          <p:nvPr/>
        </p:nvPicPr>
        <p:blipFill>
          <a:blip r:embed="rId1"/>
          <a:stretch/>
        </p:blipFill>
        <p:spPr>
          <a:xfrm>
            <a:off x="0" y="6278400"/>
            <a:ext cx="8894880" cy="59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874800" y="1703520"/>
          <a:ext cx="7386480" cy="2468520"/>
        </p:xfrm>
        <a:graphic>
          <a:graphicData uri="http://schemas.openxmlformats.org/drawingml/2006/table">
            <a:tbl>
              <a:tblPr/>
              <a:tblGrid>
                <a:gridCol w="3371760"/>
                <a:gridCol w="2008080"/>
                <a:gridCol w="2006640"/>
              </a:tblGrid>
              <a:tr h="54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Z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RÍODO 2007 -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RÍODO 2014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de montañ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con limitaciones naturales signific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con limitaciones específ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sin limit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MUNICIP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1"/>
          <p:cNvSpPr/>
          <p:nvPr/>
        </p:nvSpPr>
        <p:spPr>
          <a:xfrm>
            <a:off x="-468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8 Rectángulo"/>
          <p:cNvSpPr/>
          <p:nvPr/>
        </p:nvSpPr>
        <p:spPr>
          <a:xfrm>
            <a:off x="0" y="-144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2"/>
          <p:cNvSpPr/>
          <p:nvPr/>
        </p:nvSpPr>
        <p:spPr>
          <a:xfrm>
            <a:off x="0" y="922320"/>
            <a:ext cx="492120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_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ángulo 6"/>
          <p:cNvSpPr/>
          <p:nvPr/>
        </p:nvSpPr>
        <p:spPr>
          <a:xfrm>
            <a:off x="326880" y="3975120"/>
            <a:ext cx="8812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Respecto de los beneficiarios de las zonas que ya no sean subvencionables como consecuencia de la nueva delimitación a que se refiere el artículo 32, apartado 3, </a:t>
            </a:r>
            <a:r>
              <a:rPr b="1" i="1" lang="es-ES" sz="1600" spc="-1" strike="noStrike">
                <a:solidFill>
                  <a:srgbClr val="ff0000"/>
                </a:solidFill>
                <a:latin typeface="Arial Narrow"/>
                <a:ea typeface="Arial"/>
              </a:rPr>
              <a:t>dichos pagos serán </a:t>
            </a:r>
            <a:r>
              <a:rPr b="1" i="1" lang="es-ES" sz="1600" spc="-1" strike="noStrike" u="sng">
                <a:solidFill>
                  <a:srgbClr val="ff0000"/>
                </a:solidFill>
                <a:uFillTx/>
                <a:latin typeface="Arial Narrow"/>
                <a:ea typeface="Arial"/>
              </a:rPr>
              <a:t>decrecientes</a:t>
            </a:r>
            <a:r>
              <a:rPr b="1" i="1" lang="es-ES" sz="1600" spc="-1" strike="noStrike">
                <a:solidFill>
                  <a:srgbClr val="ff0000"/>
                </a:solidFill>
                <a:latin typeface="Arial Narrow"/>
                <a:ea typeface="Arial"/>
              </a:rPr>
              <a:t> durante un período máximo de cuatro años.</a:t>
            </a:r>
            <a:r>
              <a:rPr b="0" i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Dicho período se contará a partir de la fecha en que se haya completado la delimitación con arreglo al artículo 33, apartado 3, y a más tardar en 2018. Los pagos empezarán con un máximo del 80 % del promedio del pago que se fije en el programa para el período de programación 2007-2013 de conformidad con el artículo 36, letra a), inciso ii) del Reglamento (CE) n o 1698/2005, y finalizarán en 2020 a más tardar con un máximo del 20 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n 3" descr=""/>
          <p:cNvPicPr/>
          <p:nvPr/>
        </p:nvPicPr>
        <p:blipFill>
          <a:blip r:embed="rId1"/>
          <a:stretch/>
        </p:blipFill>
        <p:spPr>
          <a:xfrm>
            <a:off x="0" y="626112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"/>
          <p:cNvSpPr/>
          <p:nvPr/>
        </p:nvSpPr>
        <p:spPr>
          <a:xfrm>
            <a:off x="522360" y="461880"/>
            <a:ext cx="784836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F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Rectángulo 2"/>
          <p:cNvSpPr/>
          <p:nvPr/>
        </p:nvSpPr>
        <p:spPr>
          <a:xfrm>
            <a:off x="420840" y="557280"/>
            <a:ext cx="82566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lo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teriores períodos de program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los criterios empleados para la delimitación de las zonas con limitaciones naturales fuer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Zonas desfavorecidas de Montaña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plotaciones agrarias con una combinación de los dos factores anteriores (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titud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pendiente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Zonas con riesgo de despobl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Condiciones simultánea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cia de tierra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co productiva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Índices de caracterización económica agraria muy bajo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on respecto a la 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scasa densidad, o tendencia a la disminución, de la población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que depende de la actividad agraria y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ya disminución implicaría la dificultad de mantenimiento de viabilidad la actividad económica y social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.   Zonas con dificultades especiale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n aquellas en las que las actividades productivas están limitadas para evitar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 impacto en el hábitat natural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antener en ellas la gestión de las tierras para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reservar o mejorar el medio ambiente</a:t>
            </a:r>
            <a:r>
              <a:rPr b="0" i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8 Rectángulo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ANTECED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8" name="Rectángulo 2"/>
          <p:cNvSpPr/>
          <p:nvPr/>
        </p:nvSpPr>
        <p:spPr>
          <a:xfrm>
            <a:off x="646200" y="619200"/>
            <a:ext cx="78436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 artículo 32 “Designación de zonas con limitaciones naturales u otras limitaciones específicas “, del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lamento (UE) nº 1305/2013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l Parlamento Europeo y del Consejo de 17 de diciembre de 2013 relativo a la ayuda al desarrollo rural a través del Fondo Europeo Agrícola de Desarrollo Rural (FEADER) y por el que se deroga el Reglamento (CE) nº 1698/2005 del Consejo, determin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s Estados miembros designarán, sobre la base de los apartados 2, 3 y 4, las zonas que pueden optar a los pagos previstos en el artículo 31 de acuerdo con las siguientes categorí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Zonas de montaña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Zonas distintas de las de montaña con limitaciones naturales significativas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Otras zonas con limitaciones específicas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Rectángulo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PROGRAMA OPERATIVO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52" name="Rectángulo 2"/>
          <p:cNvSpPr/>
          <p:nvPr/>
        </p:nvSpPr>
        <p:spPr>
          <a:xfrm>
            <a:off x="523800" y="538200"/>
            <a:ext cx="809640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DRÁN OPTAR A LOS PAG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dades Administrativas Locales 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LAU 2) o en el nivel de una unidad local claramente delimitada que cubra una sola zona geográfica contigua precisa, dotada de una identidad económica y administrativa que,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 menos, el 60 % de la superficie agrícola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umple,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mo mínimo, uno 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los criterios enumerados en el anexo III del Reglamento 1305/2013. </a:t>
            </a:r>
            <a:r>
              <a:rPr b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“AJUSTE GRUES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s Estados miembros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berán llevar a cabo una delimitación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precisa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on arreglo a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criterios objetivos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on el fin de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excluir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s zonas en que se hayan documentado limitaciones naturales significativas pero que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hayan superado tales limitaciones como consecuencia de las inversiones o la actividad económica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r>
              <a:rPr b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“AJUSTE FIN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57" name="Rectángulo 2"/>
          <p:cNvSpPr/>
          <p:nvPr/>
        </p:nvSpPr>
        <p:spPr>
          <a:xfrm>
            <a:off x="385920" y="1031760"/>
            <a:ext cx="8508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el actual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grama de Desarrollo Rural 2014-2020, Submedida 13.2 Pago de compensación para otras áreas que afrontan limitaciones naturales considerables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apartado 8.2.11.3.2.6. 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diciones de admisibilidad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estable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“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relación con las zon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gún lo establecido en el apartado 5 del artículo 31 del Reglamento (UE) 1305/2013, los Estados miembros aplicarán la nueva delimitación, </a:t>
            </a:r>
            <a:r>
              <a:rPr b="1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a más tardar en 2018</a:t>
            </a:r>
            <a:r>
              <a:rPr b="0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, </a:t>
            </a:r>
            <a:r>
              <a:rPr b="1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mientras se continuará con la del período 2007-2013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; (…)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628560" y="2763720"/>
          <a:ext cx="8266320" cy="2438640"/>
        </p:xfrm>
        <a:graphic>
          <a:graphicData uri="http://schemas.openxmlformats.org/drawingml/2006/table">
            <a:tbl>
              <a:tblPr/>
              <a:tblGrid>
                <a:gridCol w="1928880"/>
                <a:gridCol w="4383000"/>
                <a:gridCol w="1954440"/>
              </a:tblGrid>
              <a:tr h="3052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RITE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FIN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MB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ridez (o sequí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lación entre las precipitaciones anuales (P) y la evapotranspiración potencial anual (ET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P / ETP ≤ 0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extura y dureza desfavor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lementos gruesos en el suelo (% volumétric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≥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diente escarp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mbio de elevación respecto a la distancia planimétrica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≥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ángulo 6"/>
          <p:cNvSpPr/>
          <p:nvPr/>
        </p:nvSpPr>
        <p:spPr>
          <a:xfrm>
            <a:off x="628560" y="1376280"/>
            <a:ext cx="826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 metodología empleada aparece desarrollada y justificada en el Marco Nacional,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doptado por la Comisión el </a:t>
            </a:r>
            <a:r>
              <a:rPr b="1" lang="es-ES" sz="2000" spc="-1" strike="noStrike">
                <a:solidFill>
                  <a:srgbClr val="ff0000"/>
                </a:solidFill>
                <a:latin typeface="Arial Narrow"/>
                <a:ea typeface="Arial"/>
              </a:rPr>
              <a:t>día 13 de febrero d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68" name="Imagen 2" descr=""/>
          <p:cNvPicPr/>
          <p:nvPr/>
        </p:nvPicPr>
        <p:blipFill>
          <a:blip r:embed="rId2"/>
          <a:stretch/>
        </p:blipFill>
        <p:spPr>
          <a:xfrm>
            <a:off x="7920" y="0"/>
            <a:ext cx="4438800" cy="3106800"/>
          </a:xfrm>
          <a:prstGeom prst="rect">
            <a:avLst/>
          </a:prstGeom>
          <a:ln w="0">
            <a:noFill/>
          </a:ln>
        </p:spPr>
      </p:pic>
      <p:pic>
        <p:nvPicPr>
          <p:cNvPr id="69" name="Imagen 3" descr=""/>
          <p:cNvPicPr/>
          <p:nvPr/>
        </p:nvPicPr>
        <p:blipFill>
          <a:blip r:embed="rId3"/>
          <a:stretch/>
        </p:blipFill>
        <p:spPr>
          <a:xfrm>
            <a:off x="4700520" y="0"/>
            <a:ext cx="4429080" cy="3106800"/>
          </a:xfrm>
          <a:prstGeom prst="rect">
            <a:avLst/>
          </a:prstGeom>
          <a:ln w="0">
            <a:noFill/>
          </a:ln>
        </p:spPr>
      </p:pic>
      <p:pic>
        <p:nvPicPr>
          <p:cNvPr id="70" name="Imagen 5" descr=""/>
          <p:cNvPicPr/>
          <p:nvPr/>
        </p:nvPicPr>
        <p:blipFill>
          <a:blip r:embed="rId4"/>
          <a:stretch/>
        </p:blipFill>
        <p:spPr>
          <a:xfrm>
            <a:off x="4700520" y="3147840"/>
            <a:ext cx="4443480" cy="3122640"/>
          </a:xfrm>
          <a:prstGeom prst="rect">
            <a:avLst/>
          </a:prstGeom>
          <a:ln w="0">
            <a:noFill/>
          </a:ln>
        </p:spPr>
      </p:pic>
      <p:pic>
        <p:nvPicPr>
          <p:cNvPr id="71" name="Imagen 7" descr=""/>
          <p:cNvPicPr/>
          <p:nvPr/>
        </p:nvPicPr>
        <p:blipFill>
          <a:blip r:embed="rId5"/>
          <a:stretch/>
        </p:blipFill>
        <p:spPr>
          <a:xfrm>
            <a:off x="0" y="3156120"/>
            <a:ext cx="4440240" cy="31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73" name="Imagen 2" descr=""/>
          <p:cNvPicPr/>
          <p:nvPr/>
        </p:nvPicPr>
        <p:blipFill>
          <a:blip r:embed="rId2"/>
          <a:stretch/>
        </p:blipFill>
        <p:spPr>
          <a:xfrm>
            <a:off x="4737240" y="-6480"/>
            <a:ext cx="440676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Imagen 4" descr=""/>
          <p:cNvPicPr/>
          <p:nvPr/>
        </p:nvPicPr>
        <p:blipFill>
          <a:blip r:embed="rId3"/>
          <a:stretch/>
        </p:blipFill>
        <p:spPr>
          <a:xfrm>
            <a:off x="0" y="3121200"/>
            <a:ext cx="4483080" cy="3149280"/>
          </a:xfrm>
          <a:prstGeom prst="rect">
            <a:avLst/>
          </a:prstGeom>
          <a:ln w="0">
            <a:noFill/>
          </a:ln>
        </p:spPr>
      </p:pic>
      <p:pic>
        <p:nvPicPr>
          <p:cNvPr id="75" name="Imagen 6" descr=""/>
          <p:cNvPicPr/>
          <p:nvPr/>
        </p:nvPicPr>
        <p:blipFill>
          <a:blip r:embed="rId4"/>
          <a:stretch/>
        </p:blipFill>
        <p:spPr>
          <a:xfrm>
            <a:off x="0" y="0"/>
            <a:ext cx="4483080" cy="3089160"/>
          </a:xfrm>
          <a:prstGeom prst="rect">
            <a:avLst/>
          </a:prstGeom>
          <a:ln w="0">
            <a:noFill/>
          </a:ln>
        </p:spPr>
      </p:pic>
      <p:pic>
        <p:nvPicPr>
          <p:cNvPr id="76" name="Imagen 7" descr=""/>
          <p:cNvPicPr/>
          <p:nvPr/>
        </p:nvPicPr>
        <p:blipFill>
          <a:blip r:embed="rId5"/>
          <a:stretch/>
        </p:blipFill>
        <p:spPr>
          <a:xfrm>
            <a:off x="4737240" y="3176640"/>
            <a:ext cx="440676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8913960" cy="6300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2"/>
          <p:cNvSpPr/>
          <p:nvPr/>
        </p:nvSpPr>
        <p:spPr>
          <a:xfrm>
            <a:off x="0" y="3619440"/>
            <a:ext cx="183816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5T21:03:59Z</dcterms:created>
  <dc:creator>Usuario</dc:creator>
  <dc:description/>
  <dc:language>en-US</dc:language>
  <cp:lastModifiedBy>Usuario</cp:lastModifiedBy>
  <dcterms:modified xsi:type="dcterms:W3CDTF">2017-06-20T08:12:32Z</dcterms:modified>
  <cp:revision>41</cp:revision>
  <dc:subject/>
  <dc:title>Presentación de PowerPoint</dc:title>
</cp:coreProperties>
</file>